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37262361"/>
        <c:axId val="23338952"/>
      </c:barChart>
      <c:catAx>
        <c:axId val="3726236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3338952"/>
        <c:crosses val="autoZero"/>
        <c:auto val="1"/>
        <c:lblAlgn val="ctr"/>
        <c:lblOffset val="100"/>
        <c:noMultiLvlLbl val="0"/>
      </c:catAx>
      <c:valAx>
        <c:axId val="2333895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726236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B493B-4B38-4C0E-B57E-382C16A74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70843-75AB-402E-A12B-76B75BC35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15359-C0A6-4C25-9F7F-ACCF10C06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6BF3C-B013-498C-B3B8-5E735D883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2011A-C15D-4267-B026-7D8491E8B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EC14B-7A89-453C-A7A3-42872D9E6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9B65E-091C-490F-A406-C83C58E52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C8995-C09F-4A85-B81A-D82EB556B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F5CB3-636A-4A2B-A635-A136C9C1A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50432-8FF7-4DD6-9278-AFDE4768D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004BD-0C38-4581-97F8-7132B2689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71E7A-98D0-4389-AB24-93C78D14D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AABBB-BAD9-488F-AE49-525D1462D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DDDE6-60C2-4212-910B-F3657ABF2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CFA54-7912-436A-8D5B-3C865D33A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03448-6D1E-4F20-AECD-A1DDB36DD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AAE92-E842-44F6-A230-886A5885D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57A31-D44F-447B-A5C4-D28199607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31F62-4F80-4C11-A99F-831DDAE0C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D8A8-1765-4A51-89E4-4ABB839C6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BA573-A305-4561-BF98-9D9211367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81552-4D1E-4146-B692-13DA909AC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635EE-63CF-4DE2-BDAB-77A70D2C1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85AF-AC26-46D2-BC2F-5FE19EC6D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8C5EC1-1728-41A2-AEA8-C44C1D12F9F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FCA92-A92F-4A43-A6EE-4CCE281C427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